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3244-5EE2-410F-988F-6994B5C2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3E7-2381-433F-A63F-F8A41EFF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ACC1F-E374-4FD7-B3E5-BAA1F809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A82BD-4309-461A-A53A-D2C66C0A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563A4-910F-4B4E-A75B-7A9FE278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1DA53-EBD3-4873-A96D-94DCD580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3814C-814B-4352-8C6F-4CC32CCD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3E338-685E-4FFD-A634-A364F6E0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7004E-C02A-4E33-B41A-0C1C17DF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B6F92-2834-47FF-97E4-C39B7C26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88128-B7FE-4005-BB89-41072ED7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33E4D-1DEC-4F1F-9D68-3C0107C2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3867-376B-487A-84A5-68564873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ECB2F-2735-462B-BDF5-10953732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0C770-5C06-4EA1-B9FB-EB9E50EC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1092A-10B5-4E02-A7B0-A0E99AB7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A2094-5D6E-4342-954E-60CE32B4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4D421-AF73-41BA-B178-48393096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2F3B6-02FB-47DB-8AFC-E5956DAB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27A09-4D38-4BA3-8C21-DBAE6BA2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E7D12-D6F0-4877-975B-EB621D45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EBCF4-3CD7-4D4D-8F0C-3ADB4915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74C9A-C899-43BA-AE13-110482F4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A7D-83A2-43EC-AA8F-104D1AB3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096FC-F611-4DEA-A6F2-946D2EA6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A6E79F-7B74-4AA1-86BB-720BC392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DBC515-EFC0-45C2-BA13-BF1493B9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B07A97-8FAD-415E-B4BE-84083A12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58EC2C-6574-42AD-9343-57FB0B2C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2793E3-E053-4F06-96EE-C6017824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7E5BC2-7B3B-48A4-BC9E-4B678DF9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743A34-8B5E-48BF-94F7-C4C7BC74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6A154C-8647-4E24-B09D-AF35531A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61FFED-8238-4045-B46B-8D2A26FE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7E10-6E2A-44FA-9351-7B9CDCE8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983031-9467-4277-9EBC-EAE2CE63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C958C2-4BD7-47DF-B679-7172CB11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BFBE22-63D3-4DA8-A4D1-1905DB03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278FD-31F4-423C-8F3D-83CFB4E4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846EB-4147-46A6-8303-18FBB0B7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8456A-55EB-4A47-9357-258888A4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674C8-7EB8-420A-9EB7-0A80B205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D0EB2-7916-4B84-BACD-EB8137A0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C3F6B-1E01-4E49-AD2F-4F99C453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50EB4-21C3-4989-AA80-FE3D75E9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2DB9-C8AD-4CB5-BFF1-BCCDF026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8BC7A-C333-4066-A944-EEAE4EBD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D8B6E-576E-4DEF-892A-FB386573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04A1F-4833-48DE-B6B4-D0934956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EBA76-5B17-4DA2-9B20-D4CA504A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6A633-3C4B-4FFB-9C72-75BE37C7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1115-2ABA-4E5E-B1C9-698D43D8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C930-0758-45B1-9965-3244FFC8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26A7-9A43-4F3A-A948-0AA834B8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AE47-7C9B-4EFA-B820-8F8F652A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D2AD-CF3C-4B52-AF8D-956FEBDE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E018-DAED-4E42-A0AC-76BE066A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A1CA-6559-4EF4-BF26-7C464803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E531-3CC4-476B-9446-E970527E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C005-BAB7-4BEC-97AA-229D42DD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BC76-696A-4381-87FF-5F8007FB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04AD-1967-46EB-B81C-B0F3E300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2074-02A4-4F61-8AC9-B6AAEFE4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C0A21-47ED-4526-B37D-C9CE3995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04F4D-8A07-44A2-B60F-EBC23E33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35BF1-8822-4E38-85C5-CCD7F811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19B5C-2E71-425A-833A-DFD5F7AC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313-EAEB-4109-8173-145A0144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E851C-E91D-4B34-B726-5411A95A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308F8-9940-4AC9-8F20-24B14502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3DCA7-8D03-46BC-8EF2-7E234EE4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7EE31-2117-4AD2-84FB-D281C271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762FF-1868-477E-BE56-CA676C71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3E818-3431-4F11-8DC4-8EDC45F9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EC16A-AA7B-41F8-8DEF-D666B441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D2191-A37B-4C6B-BD29-2F42DE69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3659E-10A5-4E60-96B3-8B1A0C3F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37B6C-207F-463E-8B95-26171006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526-5979-42F2-90F1-B95C2D30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7C1F0-6D46-4D41-BB82-71F1E96C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8D800-B7F9-4673-92AF-830FB2CC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1D954-F955-4D9F-A3A5-70714857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82630-A1CB-4BD9-A1B0-AF483750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1A0A5-CFAF-41A7-B8E0-646577D9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94CE0-B924-44CA-8BFD-B8B1DB51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8B206-8DCA-4011-8A0F-8FB85EC6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0C6A1-53F3-4E84-B92E-9742C77A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37194-1F39-4439-A7A0-7AABC169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BFF40-60E7-4D62-BE2C-27B08D14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F8C-6D86-4658-8208-2814A2A9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5209C-EE48-4A0E-8915-812E2647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74397-DAF6-44AB-9410-5933BA12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8062B-0235-4D03-B48E-3DAC579B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18925-EE39-4A04-951E-17269CDD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FB5FF-C99A-428E-A17B-B4D5B719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F244C-5C26-449E-B4C7-A35E834E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DF66B-6FAA-401D-B4E1-D51781CB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4DE59-0F32-4B7E-9C4F-4BFD98A4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C9CFA-40C3-49AB-B52E-5233874D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4D8DC-A1CD-4CF2-83AA-1B95DE21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3A7-8C15-44D7-9957-2E5CB1E4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3DC74-6037-491E-8FA3-7A72ECD2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38648-A2EA-47D3-AF60-1E973AB8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7F04D-E280-4D3E-84C6-410D0918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34A4D-E80B-48C3-97AE-CB504326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A2EE7-F423-43B4-B245-57B97497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771E6-71B1-4ED6-A4B3-E3456354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F77FB-C333-4F89-A269-0828C28E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CCFA7-BA91-4B7D-BA60-F11C4C89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F17BF-DC36-490A-8107-20B29A87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C25C0-D76C-4C82-9822-41042969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4758-152F-44DF-AA18-26218083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AC9F5-0DF8-4126-8B3B-54C5E23E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CAFE2-117E-4120-A8C4-EE94C881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8B294-21AC-4723-A8BB-8CDAFF40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9414A-E993-4E9C-8DC6-528EEB7B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2D678-6639-4826-8314-EB4A9B89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CEAED-2C18-46BC-8F23-0CC4AB1D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32990-4441-47DF-99B0-F09936C7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65067-A26F-481B-A21B-51934621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D848F-551B-40D7-B3E2-0D6881AF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FFD00-D064-419B-B4DC-5713ED2A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1D2-4AF2-4175-884D-8BAD6F8A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1EC66-27B7-4858-A0E8-B9C8DFE7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DAFD1-DE94-482F-89A3-06F9924A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849C5-D772-4C41-8467-22005E46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8C522-E0F6-47D5-AB30-1AEAB2C2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93FF0-7FE2-4151-9E77-6226BDEC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88376-FD63-49D4-B7A7-A045EEBB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95824-E1F0-45CA-A6B0-F27514DB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CD6EB-1E64-4CDF-942C-31A99A81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C84C6-F44C-4EF1-913A-F2B746AB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CA74F-BF5B-4F49-9327-00750BF2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FE5E-EBDC-4E30-950D-70ADCFDA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49562-E973-4CC6-B4F6-3C6CBF82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71A29-0E37-4912-B7AD-B2E3A1CE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5A5EE-B794-4772-B976-4BB2B72A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606DF-08E3-4498-B81B-D6BAE3DB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33BDD-1867-4C45-890F-1CA7C7F4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B660E-D755-48CA-A2F3-DDC7DB28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9CFF2-006A-4683-A29A-9FE46B30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42D72-E8C6-4E66-A8B6-24546BCC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765AB-8E53-4CF2-AD0C-13498192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64AA9-EB0E-4DCB-827D-F9C0E8F1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2661-87AC-48BE-968B-A219AF00325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8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29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30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AE07-50B5-4F2C-9774-2DD3C8B21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805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7d2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F94E-113D-41DB-9CA9-D8C3959747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7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8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78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a9400"/>
                </a:gs>
                <a:gs pos="100000">
                  <a:srgbClr val="3e7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2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78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a9400"/>
                </a:gs>
                <a:gs pos="100000">
                  <a:srgbClr val="3e7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D51A-7582-4F01-90B6-D319DA1F16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0DFD-6335-4266-A8CA-178FDF8FCBA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6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1BFA-5FF7-4859-896A-2DF10D57C6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41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B9D0-E3F1-4683-8D2C-AF48FC2E2B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85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966"/>
                </a:gs>
                <a:gs pos="50000">
                  <a:srgbClr val="6fb56d"/>
                </a:gs>
                <a:gs pos="100000">
                  <a:srgbClr val="68a9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FD05-0C6C-44AA-ACB7-11DFD3ADDC1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42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966"/>
                </a:gs>
                <a:gs pos="50000">
                  <a:srgbClr val="6fb56d"/>
                </a:gs>
                <a:gs pos="100000">
                  <a:srgbClr val="68a9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0bd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8aba8d"/>
                </a:gs>
                <a:gs pos="100000">
                  <a:srgbClr val="9ec5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6CE9-4010-44AE-AAD8-8A929E795B6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98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66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25F5-B63A-41FA-95D2-280CCAE80E3D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43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FB04-D85B-4E24-B1D5-E49E2EB41D00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7d2f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5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6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7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6201-81DC-4702-B337-CAFA78469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805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7d2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dc.gov/tb/faqs/" TargetMode="External"/><Relationship Id="rId2" Type="http://schemas.openxmlformats.org/officeDocument/2006/relationships/hyperlink" Target="http://www.nlm.nih.gov/medlineplus/tuberculosis.html" TargetMode="External"/><Relationship Id="rId3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solidFill>
            <a:srgbClr val="33cccc"/>
          </a:solidFill>
          <a:ln w="93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uberculosi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solidFill>
            <a:srgbClr val="33cccc"/>
          </a:solidFill>
          <a:ln w="9360">
            <a:solidFill>
              <a:srgbClr val="cc99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Myk DeLong, And Anthony Ishma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62120" y="3124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te: Slideshow will go on its own, no need to press anythin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1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1" dur="indefinite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2" dur="indefinite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666699"/>
          </a:solidFill>
          <a:ln w="9360">
            <a:solidFill>
              <a:srgbClr val="66006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cc99ff"/>
          </a:solidFill>
          <a:ln w="9360">
            <a:solidFill>
              <a:srgbClr val="66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uberculosis is not common much in the United Stat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 is common in developing nations because they don’t have the medications they need to prevent i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ientists have been researching how to stop this disea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1000">
    <p:comb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-1315800" y="4363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Treatmen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152388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ients with Tuberculosis are cured with antibiot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wo most used antibiotics are called Rifampicin and isoniazi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eatment usually lasts about 6-9 month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9000">
    <p:wheel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graph of how tuberculosis spread since 198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5181480" cy="3111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94349"/>
                </a:solidFill>
                <a:latin typeface="Arial"/>
              </a:rPr>
              <a:t>Tuberculosis in the bod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029200" cy="37720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4495680" y="1752480"/>
            <a:ext cx="0" cy="5335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ymptoms of Tuberculo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ght sw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ight lo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appet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u-Like sympto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strointestinal sympto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20000">
    <p:newsflash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1122480" y="28404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ae8ba"/>
                </a:solidFill>
                <a:latin typeface="Garamond"/>
              </a:rPr>
              <a:t>People who are most likely to get it</a:t>
            </a:r>
            <a:endParaRPr b="1" lang="en-US" sz="4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7692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with HIV infec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that are close to a person who has TB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who became infected with TB bacteria in the last 2 yea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bies and young childr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who inject drug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who are sick with other diseases that weaken the immune syste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derly peopl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33000">
    <p:strips dir="r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~~Credits~~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33"/>
                </a:solidFill>
                <a:uFillTx/>
                <a:latin typeface="Garamond"/>
                <a:hlinkClick r:id="rId1"/>
              </a:rPr>
              <a:t>http://www.cdc.gov/tb/faqs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33"/>
                </a:solidFill>
                <a:uFillTx/>
                <a:latin typeface="Garamond"/>
                <a:hlinkClick r:id="rId2"/>
              </a:rPr>
              <a:t>http://www.nlm.nih.gov/medlineplus/tuberculosis.htm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mayoclinic.com/health/tuberculosis/DS0037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pcontent.answers.com/wikipedia/commons/thumb/1/13/TB_incidence.png/350px-TB_incidence.p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students.stedwards.edu/aruiz5/Mycobacterium%20tuberculosis.jp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emedicinehealth.com/tuberculosis/page3_em.ht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5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50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5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5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331" dur="5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animClr clrSpc="rgb">
                                      <p:cBhvr>
                                        <p:cTn id="332" dur="5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set>
                                      <p:cBhvr>
                                        <p:cTn id="333" dur="5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19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335" dur="50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animClr clrSpc="rgb">
                                      <p:cBhvr>
                                        <p:cTn id="336" dur="50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set>
                                      <p:cBhvr>
                                        <p:cTn id="337" dur="50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19">
                                  <p:stCondLst>
                                    <p:cond delay="4000"/>
                                  </p:stCondLst>
                                  <p:childTnLst>
                                    <p:animClr clrSpc="rgb">
                                      <p:cBhvr>
                                        <p:cTn id="339" dur="5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animClr clrSpc="rgb">
                                      <p:cBhvr>
                                        <p:cTn id="340" dur="5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set>
                                      <p:cBhvr>
                                        <p:cTn id="341" dur="5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19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3" dur="5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animClr clrSpc="rgb">
                                      <p:cBhvr>
                                        <p:cTn id="344" dur="5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set>
                                      <p:cBhvr>
                                        <p:cTn id="345" dur="5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9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347" dur="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animClr clrSpc="rgb">
                                      <p:cBhvr>
                                        <p:cTn id="348" dur="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set>
                                      <p:cBhvr>
                                        <p:cTn id="349" dur="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9">
                                  <p:stCondLst>
                                    <p:cond delay="7000"/>
                                  </p:stCondLst>
                                  <p:childTnLst>
                                    <p:animClr clrSpc="rgb">
                                      <p:cBhvr>
                                        <p:cTn id="351" dur="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animClr clrSpc="rgb">
                                      <p:cBhvr>
                                        <p:cTn id="352" dur="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771f3"/>
                                      </p:to>
                                    </p:animClr>
                                    <p:set>
                                      <p:cBhvr>
                                        <p:cTn id="353" dur="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5:15:26Z</dcterms:created>
  <dc:creator>ws09018</dc:creator>
  <dc:description/>
  <dc:language>en-US</dc:language>
  <cp:lastModifiedBy>ws09018</cp:lastModifiedBy>
  <dcterms:modified xsi:type="dcterms:W3CDTF">2009-05-11T20:11:36Z</dcterms:modified>
  <cp:revision>10</cp:revision>
  <dc:subject/>
  <dc:title>Tuberculosis</dc:title>
</cp:coreProperties>
</file>